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605-7FFB-4EF3-B1AF-DA5053E7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E89-7F71-4560-8757-B53F172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D3B-BA7F-4B8A-8BAA-622977EF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333-CF22-4D26-9155-4FB0D97F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C70-4905-49A2-94B0-A2F41F4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9AF-3B3E-4AD7-8EFF-0440329A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1B0-DF91-46DD-9F03-84C99B2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4DE-4F7C-41A0-8C43-C555FA02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E41-F3DB-48AC-BDC9-93E1286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2B3-A485-4013-B499-14322A78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D9C-418A-4255-9913-F4FDF8A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9F7-3D3D-4AFD-84B7-66B23A2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4395-D2ED-4B9C-BF19-36907BF6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9900"/>
                </a:solidFill>
                <a:latin typeface="Bookman Old Style"/>
              </a:rPr>
              <a:t>حدائق الياسم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858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نقدم النباتات والأزهار في تصاميم رائ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0:02Z</dcterms:created>
  <dc:creator>15:02</dc:creator>
  <dc:description/>
  <dc:language>en-US</dc:language>
  <cp:lastModifiedBy>Andaleeb</cp:lastModifiedBy>
  <dcterms:modified xsi:type="dcterms:W3CDTF">2004-08-04T11:28:55Z</dcterms:modified>
  <cp:revision>2</cp:revision>
  <dc:subject/>
  <dc:title>Jasmine Gardens</dc:title>
</cp:coreProperties>
</file>